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32489"/>
        <c:axId val="22906077"/>
      </c:barChart>
      <c:catAx>
        <c:axId val="63432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06077"/>
        <c:crosses val="autoZero"/>
        <c:auto val="1"/>
        <c:lblAlgn val="ctr"/>
        <c:lblOffset val="100"/>
        <c:noMultiLvlLbl val="0"/>
      </c:catAx>
      <c:valAx>
        <c:axId val="22906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32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7F4-FFDE-4B61-94CB-C1281A2A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EF4-E121-4B5E-9554-C2C23B81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CDB-A732-402B-AA0C-E119FEB5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1A2-32B8-453F-A90F-9C4EF570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002-1439-45A6-A1EC-95C347B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B2C-8F88-4D22-AA57-ACD30E98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EAE-6AA5-4DB7-B0E3-7B417D4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F49-CC0B-4C06-8C8C-9053D1BD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08E-835D-4C19-A435-64A0804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AE4-8BB1-4F8B-A533-D307E13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190-00C5-43FD-ACEE-14F84302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D76-63AB-4F95-AF81-ECA4782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EF625-659D-42F9-948E-F3B7FA5CE9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